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Musica%20Menu%20Popu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5DE-5E25-45E4-AA90-8CDAC981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D86-DD38-4589-9BAE-2FECF622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13A5-3396-4065-8768-AB7CB760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D6AB-D92F-43F1-98F7-EB89CBF1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8D9A-F8A6-4A1E-AFB0-4906CD03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A1CA-5264-4AD6-8131-E55E3DC5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D8AF-38E2-4BC4-9AB7-8F262F38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1BFA-FCE8-40DD-A74A-D4F39E88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D497-C0AA-45E8-89D3-28407DE7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FF5-796F-4C8E-9B8E-CFC16031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402-63FC-4323-ACA7-A4B10F59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68F9-949D-4D29-92E4-9C6D92B8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2D1B-9514-4680-A74F-91D6A9C80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Utopia%20Restore%20Up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Utopia%20Restore%20Up.wa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Musica%20Menu%20Popup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95680" y="609480"/>
            <a:ext cx="22860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24280" y="609480"/>
            <a:ext cx="4073760" cy="5446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43" name=""/>
          <p:cNvSpPr/>
          <p:nvPr/>
        </p:nvSpPr>
        <p:spPr>
          <a:xfrm>
            <a:off x="4724280" y="609480"/>
            <a:ext cx="4038840" cy="54104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33440" y="1295280"/>
            <a:ext cx="3233160" cy="82512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Comic Sans MS"/>
              </a:rPr>
              <a:t>Book Tit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5640" y="5334120"/>
            <a:ext cx="2545920" cy="52056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By Your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  <a:hlinkClick r:id="rId3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609480"/>
            <a:ext cx="403884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can simply add your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wn text and pic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nto each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ust click to add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r use Insert Pi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py this page as 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imes as you n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y changing the auto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ttings, the paper can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y colour or te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cho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  <a:hlinkClick r:id="rId2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95680" y="609480"/>
            <a:ext cx="22860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4073400" cy="544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533520" y="609480"/>
            <a:ext cx="4038480" cy="54104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663300"/>
              </a:gs>
            </a:gsLst>
            <a:lin ang="108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609480"/>
            <a:ext cx="35049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a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Your 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a little help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a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a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2:13:16Z</dcterms:created>
  <dc:creator>Ian Bean</dc:creator>
  <dc:description/>
  <dc:language>en-US</dc:language>
  <cp:lastModifiedBy> </cp:lastModifiedBy>
  <dcterms:modified xsi:type="dcterms:W3CDTF">2006-02-14T02:24:32Z</dcterms:modified>
  <cp:revision>3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>http://freespeace.virginnet.co.uk/ian.priorywoods/index.html</vt:lpwstr>
  </property>
  <property fmtid="{D5CDD505-2E9C-101B-9397-08002B2CF9AE}" pid="9" name="LinkColor">
    <vt:r8>16711782</vt:r8>
  </property>
  <property fmtid="{D5CDD505-2E9C-101B-9397-08002B2CF9AE}" pid="10" name="MailAddress">
    <vt:lpwstr>ian.priorywoods@virginnet.co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\Powertest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